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9E2-7EC3-41AD-B6F8-BC0BBC7C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EC2-312B-4F97-B98A-40FD17CC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ED3-90A8-4C6C-BE41-CFBA7C28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2F7-30EB-4F5A-9656-E8F13F4D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1A2E-1D84-4F84-B62A-4DF6BC99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1232-2467-45C6-B323-3E17BCF9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B09B-FFF6-492F-A258-103B3236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D55C-610D-49F5-9A62-E00071E6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B19D-C02A-4DC4-BECC-F1A8CB5E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33F9-7C34-4205-8D0E-5FBE391F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C491-4438-42C1-86B1-6EF2F8AC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973-FAFA-4509-91EF-C246EF92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8AA1-0A44-4E15-AC74-82ED6D67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5033-DDA3-48F5-AD18-FC2552A9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CDCA-4462-4BA6-BFFD-ACEE8F72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9D71-F95F-4674-840C-444BC6B8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97DE-39E3-4459-995E-1D824606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6F1-23DB-4CD5-B0C3-7280F290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1A1-814D-4969-A1F5-30F0DB38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F30-8F69-4BB3-BC57-5CA0572E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5F4-F6F1-4463-9F3A-1461CA0B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624-87BD-49D4-92F5-BFF360BD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AF3-FA73-4D02-BDDD-6D1129A6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748-814E-4FE8-9688-43EB7890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A7E5-728E-4A17-BD60-E22C11675DF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775B-30CE-4EDB-AD12-7CACD39A6D7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nimationfactory.com/en/search/close-up.html?&amp;oid=4970430&amp;s=1&amp;sc=1&amp;st=488&amp;category_id=E17&amp;spage=1&amp;hoid=db10533a1a83052a6ec8854f1edd4217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788832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 rot="16200000">
            <a:off x="7067520" y="3905280"/>
            <a:ext cx="411480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Book Antiqua"/>
              </a:rPr>
              <a:t>By:  Kyle Burkey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4" descr="Green Pencil Drawing Animated Clipar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83 0.17222 L 0.62916 0.58334 E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2d050"/>
                </a:solidFill>
                <a:latin typeface="Book Antiqua"/>
              </a:rPr>
              <a:t>Mathema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514600" y="914400"/>
            <a:ext cx="6629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athematical skills and concepts I learned and applied through my project were writing formulas to find the total of my grocery shopping or college planning expenses. But before all the that I knew is that I had to use all I knew about this so all I could do was my best and I would soon figure out how to do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Flashing Add Symbol Animated Clipart"/>
          <p:cNvPicPr/>
          <p:nvPr/>
        </p:nvPicPr>
        <p:blipFill>
          <a:blip r:embed="rId1"/>
          <a:stretch/>
        </p:blipFill>
        <p:spPr>
          <a:xfrm>
            <a:off x="6324480" y="4038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23 0.06274 C -0.31076 0.04815 -0.53159 0.0338 -0.5427 -0.02592 C -0.55416 -0.08611 -0.15538 -0.19583 -0.15711 -0.29791 C -0.1592 -0.39976 -0.46562 -0.69444 -0.55486 -0.63703 C -0.64392 -0.57916 -0.70052 0.01436 -0.69218 0.04815 C -0.6842 0.08334 -0.56701 -0.38194 -0.5059 -0.43078 C -0.44479 -0.48009 -0.29062 -0.31527 -0.32534 -0.24629 C -0.35989 -0.17731 -0.53628 -0.09722 -0.7125 -0.01689 E">
                                      <p:cBhvr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2d050"/>
                </a:solidFill>
                <a:latin typeface="Book Antiqua"/>
              </a:rPr>
              <a:t>Technolog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48320" y="838080"/>
            <a:ext cx="449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new technology things I learned was how to make a formula in excel and how to use excel which at the beginning I had no idea how to u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File Server On Network Animated Clipart"/>
          <p:cNvPicPr/>
          <p:nvPr/>
        </p:nvPicPr>
        <p:blipFill>
          <a:blip r:embed="rId1"/>
          <a:stretch/>
        </p:blipFill>
        <p:spPr>
          <a:xfrm>
            <a:off x="0" y="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Affective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95280" y="83808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 learned about my self is that I like doing buying stuff that I might actually buy in life and it is so much fun and I like learning about things in the real world that I will have to deal with and know I’m going to do better in life with buying stuff for colleg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Decision Ma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0" y="8380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 made all my decision’s was what I thought I would need and what I wouldn’t need and what I just wanted because I had unlimited mone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8:33Z</dcterms:created>
  <dc:creator>ITSUser</dc:creator>
  <dc:description/>
  <dc:language>en-US</dc:language>
  <cp:lastModifiedBy>ITSUser</cp:lastModifiedBy>
  <dcterms:modified xsi:type="dcterms:W3CDTF">2010-02-17T21:24:06Z</dcterms:modified>
  <cp:revision>7</cp:revision>
  <dc:subject/>
  <dc:title>College Planning Project Reflection</dc:title>
</cp:coreProperties>
</file>